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9.wmf" ContentType="image/x-wmf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A577-195D-476D-A360-9E52D6FE1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F895-629D-4777-98EB-F8D99CA69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74C-8571-49AE-A8A7-945B3636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E6E-A021-4E8B-9D58-AE8BCD73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FE2-8F8C-4B2D-AEE7-59AD7705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BC5-BA37-4BF2-BADA-9BBE5084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8D4-F278-48DA-95EF-C177C85F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56E05-9280-4CE4-A0D6-069EC03B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5321D-12EB-4B84-BE8A-827C8D3D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A7A18-2F43-4218-9151-75784975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67B09-C5E9-4A32-9332-D21F2CA5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DB288-D71E-45B9-A8BB-70DF26F8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71D-8023-4632-86FB-B7F6D63B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9637E-06B7-4ABC-9234-CBD61281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3F296-47E8-4F38-9F35-95DAC696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3791E-ECC7-4C2C-8FB2-54D75A3B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4870D-49B3-434B-9AB8-D2D0DFAE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4E930-D4BE-461F-A4F6-60F2099C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27DF1-E898-47F8-B206-1C750EDE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05DB0-5D75-45B6-98F5-F1E3527A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A668F-F8BB-454C-A52F-D2AF3B6B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3F0C2-BAFA-4EC8-9B3E-C09208C5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70748-4670-44BC-9357-4131930B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0F7-5A9A-4C86-A42B-DCF077EF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BF36E-0E77-4937-8941-7ACF8646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DE03B-B540-4FFF-8701-4C10F55B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E9C7B-CF5E-42BE-998B-5CD0D76E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25AEF-B994-48F6-831A-0351F57E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26FAA-AA55-4128-AD0D-7208EAFD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89507-6234-407B-8E13-CCA37A46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179AA-108E-4E66-BA1B-C23B75BD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FD9A1-108A-47B4-A4DD-E141DA43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36685-E203-4EB7-9BEE-E9227486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23E-78F0-40C1-83E6-0032CA6D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2FF-2EF7-4319-BA31-1AE99B5F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B73-595C-4F88-BFE4-FA5A66FA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566-B1E7-486A-BF90-27866528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52B-5A05-451C-B05A-81AE9425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B6E5-0B74-477D-9272-F64CA1F50A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22C5-B304-4952-9D88-4F164DEB6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pera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1725-E93A-4617-AA44-69D56E1041F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09B8-3493-441A-AF48-F3691A2AD6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4F0B-F4B2-4A3F-A671-5DA352C090E8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A243-7592-4008-99B7-D27496F30C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E92C-10DA-4D7B-8614-18C35F775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516F-A26D-4EA9-AC5F-CB09F3735A64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ABBD-861E-4086-8895-3673842C67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91A3-7218-4A5E-8818-0F061695F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covery.gov/" TargetMode="External"/><Relationship Id="rId2" Type="http://schemas.openxmlformats.org/officeDocument/2006/relationships/hyperlink" Target="http://www.govbenefits.gov/" TargetMode="External"/><Relationship Id="rId3" Type="http://schemas.openxmlformats.org/officeDocument/2006/relationships/hyperlink" Target="http://www.makinghomeaffordable.gov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nancial Recovery title slide with FDIC Money Smart logo and module logo including a person helping someone up a ste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52280" y="838080"/>
            <a:ext cx="6096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uperació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152280" y="167652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inancie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sarrollar un plan de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 plan de recuperación financier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ahorrar dinero, pagar sus facturas y reducir o eliminar sus deu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bería incluir objetivos financieros y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C:\Users\Luke\AppData\Local\Microsoft\Windows\Temporary Internet Files\Content.IE5\632VAGKS\MC900341851[1].jpg"/>
          <p:cNvPicPr/>
          <p:nvPr/>
        </p:nvPicPr>
        <p:blipFill>
          <a:blip r:embed="rId1"/>
          <a:stretch/>
        </p:blipFill>
        <p:spPr>
          <a:xfrm>
            <a:off x="2895480" y="4038480"/>
            <a:ext cx="27291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blecer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26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que y escriba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egúrese de que sean Específicos, Medibles, Alcanzables, Relevantes y Oportu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rganice sus objetivos por periodos de tiemp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úe su progreso y vuelva a evaluar sus objetivos periódicam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Figure riding an arrow that is going up"/>
          <p:cNvPicPr/>
          <p:nvPr/>
        </p:nvPicPr>
        <p:blipFill>
          <a:blip r:embed="rId1"/>
          <a:stretch/>
        </p:blipFill>
        <p:spPr>
          <a:xfrm>
            <a:off x="7010280" y="4343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Mis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1420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numere uno o dos objetivos financieros principale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numere cualquier objetivo relacionado que le pueda ayudar a conseguir estos objetivos princip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egúrese de que siguen las pautas inteligentes que hemos mencionado.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rear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guir un plan de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saber cuáles son sus ingresos y gastos todos los m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e la ansiedad de no poder cumplir con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da una sensación de control sobre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construir un patrimonio para mejorar la calidad de vida de usted y su fami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4" descr="Family (father, mother, son, and daughter) posing for a picture on their lawn"/>
          <p:cNvPicPr/>
          <p:nvPr/>
        </p:nvPicPr>
        <p:blipFill>
          <a:blip r:embed="rId1"/>
          <a:stretch/>
        </p:blipFill>
        <p:spPr>
          <a:xfrm>
            <a:off x="7640640" y="380880"/>
            <a:ext cx="132552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s hora de poner su plan en acción una vez que hay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valuado su situación financiera act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tablecido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do un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Implementar su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edir asis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tacte co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gramas de asistencia locales, estatales y naciona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erígüelo sea cual sea su nivel de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ul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recovery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www.govbenefits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3"/>
              </a:rPr>
              <a:t>www.makinghomeaffordabl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5" descr="Outstretched hand"/>
          <p:cNvPicPr/>
          <p:nvPr/>
        </p:nvPicPr>
        <p:blipFill>
          <a:blip r:embed="rId4"/>
          <a:stretch/>
        </p:blipFill>
        <p:spPr>
          <a:xfrm>
            <a:off x="7370640" y="2571840"/>
            <a:ext cx="17859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onstruir su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i va a reparar su propio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ida una copia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que y corrija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muníquese con sus acreedores para explicar su situación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gocie planes de pagos con sus acreedores cuando tenga dinero para pagar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pte por no recibir ofertas no solicitadas de tarjetas de créd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tener una copia de su 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5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ida un informe crediticio gratuito de cada agencia crediticia cada 12 meses e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annualcreditreport.com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Annual Credit Report screen shot"/>
          <p:cNvPicPr/>
          <p:nvPr/>
        </p:nvPicPr>
        <p:blipFill>
          <a:blip r:embed="rId2"/>
          <a:stretch/>
        </p:blipFill>
        <p:spPr>
          <a:xfrm>
            <a:off x="1297080" y="3124080"/>
            <a:ext cx="34369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car err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i cree que hay un error en su informe creditici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óngase en contacto con la agencia de informes creditic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criba una carta para disputar el error y guarde una copia de la carta para sus regist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as agencias de informes crediticios están obligadas a realizar una investigación en el plazo de 30 días después de recibir su carta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ntes de llamar a su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8800" indent="-298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termin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debe a cada acree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puede pagar a cada acree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do puede pagar a cada acreedor siendo real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sté preparado par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su situación y cualquier esfuerzo que esté haciendo para pagar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enga un plan realista de cuándo puede hacer sus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lamar a su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568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ocumente la conversación o escriba una carta a su acree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ntenga la cal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gunte si hay programas de "apuros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 honesto consigo mismo y con su acree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acepte ninguna oferta que no pueda cumpl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13" descr="Cell phone"/>
          <p:cNvPicPr/>
          <p:nvPr/>
        </p:nvPicPr>
        <p:blipFill>
          <a:blip r:embed="rId1"/>
          <a:stretch/>
        </p:blipFill>
        <p:spPr>
          <a:xfrm>
            <a:off x="3733920" y="491004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ar una agencia de asesoría credit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a agencia podría ser lo correcto si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cesita ayuda para crea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tiene la suficiente disciplina para segui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efiere no negociar con sus acreedores o no puede acordar un plan de pago aceptable con el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puede llevar un registro de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ar una agencia de asesoría credit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a agencia de asesoría crediticia le puede ayudar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dministrar su dinero y sus deu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rea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prender sobre cómo administrar crédito de consumidores, dinero y deudas, y sobre presu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Man counseling a young guy"/>
          <p:cNvPicPr/>
          <p:nvPr/>
        </p:nvPicPr>
        <p:blipFill>
          <a:blip r:embed="rId1"/>
          <a:stretch/>
        </p:blipFill>
        <p:spPr>
          <a:xfrm>
            <a:off x="3505320" y="4546440"/>
            <a:ext cx="2338200" cy="1559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mos en la reparación de crédi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adie puede eliminar información correcta de su informe creditic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uede llevar años reparar legítimamente un mal crédi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adie puede crearle una identidad nue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as compañías legítimas proporcionan un servicio antes de pedirle que pagu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uede pedir su propio informe creditic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Revisar y ajustar su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idere revisar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lan de gasto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pués de implementarlo y periódicamente después (por ejemplo, cada 6 mese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bjetivo financiero y prioridades de gastos cada 12 meses, o después de cualquier evento cru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forme crediticio al menos cada 12 meses y antes de solicitar un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justar su plan de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3712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sus ingresos y/o gastos cambi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alcance, ajuste o desarrolle un nuevo objetivo financie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haga una transición a una nueva etapa en su v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tes de que suceda algo inespe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5" descr="Female using a computer"/>
          <p:cNvPicPr/>
          <p:nvPr/>
        </p:nvPicPr>
        <p:blipFill>
          <a:blip r:embed="rId1"/>
          <a:stretch/>
        </p:blipFill>
        <p:spPr>
          <a:xfrm>
            <a:off x="7434360" y="2098800"/>
            <a:ext cx="1549440" cy="23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sar y ajustar su cobertura de segur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se la cobertura de su seguro al menos una vez al añ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y qué tipo de seguro necesita dependerá de sus circunst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verigüe qué desastres naturales están cubiertos por su póliza de seguro de propietario estándar y asegúrese de estar bien proteg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Flooded area around a home"/>
          <p:cNvPicPr/>
          <p:nvPr/>
        </p:nvPicPr>
        <p:blipFill>
          <a:blip r:embed="rId1"/>
          <a:stretch/>
        </p:blipFill>
        <p:spPr>
          <a:xfrm>
            <a:off x="3505320" y="4579920"/>
            <a:ext cx="2209680" cy="1473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sar y reconstruir su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494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se su cartera de inversiones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l menos una vez al a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ando sufra cambios de vida import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ando el mercado fluctú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juste su distribución teniendo en cuent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do va a necesitar el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u tolerancia al ries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Stock market data"/>
          <p:cNvPicPr/>
          <p:nvPr/>
        </p:nvPicPr>
        <p:blipFill>
          <a:blip r:embed="rId1"/>
          <a:stretch/>
        </p:blipFill>
        <p:spPr>
          <a:xfrm>
            <a:off x="7467480" y="304920"/>
            <a:ext cx="1524240" cy="129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onstruir sus ahor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990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ra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gar gastos adicionales sin interrumpir o desviarle de su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ra que pueda pagar gastos adicionales y evitar los intereses y costos que le cobrarían al utilizar una tarjeta de créd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Coin being dropped into a piggy bank"/>
          <p:cNvPicPr/>
          <p:nvPr/>
        </p:nvPicPr>
        <p:blipFill>
          <a:blip r:embed="rId1"/>
          <a:stretch/>
        </p:blipFill>
        <p:spPr>
          <a:xfrm>
            <a:off x="7620120" y="457200"/>
            <a:ext cx="124920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venir futuros percan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2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uáles son algunos pasos que puede dar para seguir su rumbo hacia la recuperación financiera?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construir sus ahor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guir aplicando lo que ha aprend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guir adela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r pa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mentar sus cono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edir ay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modos de aumentar sus ingresos y disminuir y dar prioridad a su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sarrollar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r, implementar y ajustar un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maneras de aumentar ingresos y reducir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ar prioridad a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r objetivos financieros y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construir su crédito y cómo evitar los timos en la reparación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pasos para implementar con éxito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conocer cómo protegerse contra timos en la reparación d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periodos de tiempo en los que revisará y ajustará su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 recuperación financier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s pasos a una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1752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sarrollar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ner en marcha su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y ajustar su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Notebook, calculator, and pencil"/>
          <p:cNvPicPr/>
          <p:nvPr/>
        </p:nvPicPr>
        <p:blipFill>
          <a:blip r:embed="rId1"/>
          <a:stretch/>
        </p:blipFill>
        <p:spPr>
          <a:xfrm>
            <a:off x="3189240" y="4419720"/>
            <a:ext cx="1916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Evaluar su situación financiera act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4604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úe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amine sus ingresos y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mpruebe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Check register"/>
          <p:cNvPicPr/>
          <p:nvPr/>
        </p:nvPicPr>
        <p:blipFill>
          <a:blip r:embed="rId1"/>
          <a:stretch/>
        </p:blipFill>
        <p:spPr>
          <a:xfrm>
            <a:off x="3124080" y="3581280"/>
            <a:ext cx="251460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Ingresos y gastos mensual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vise la hoja de trabajo de ingresos y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gresos y gastos mens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iense en manera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mentar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ir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ar prioridad a sus gasto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gue primero sus necesidades b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ás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pués pague los gastos de más prior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or último pague el resto de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6" descr="Family (father, mother, and three girls) posing for a picture on their couch"/>
          <p:cNvPicPr/>
          <p:nvPr/>
        </p:nvPicPr>
        <p:blipFill>
          <a:blip r:embed="rId1"/>
          <a:stretch/>
        </p:blipFill>
        <p:spPr>
          <a:xfrm>
            <a:off x="5905440" y="1676520"/>
            <a:ext cx="26290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0-12-28T20:53:56Z</dcterms:modified>
  <cp:revision>6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